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8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5597-D884-433F-92FB-24449CA6D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CC6A-B618-4C8D-A490-29E46CA89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54A659-D96C-4999-BFEA-7ABF8530F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3EA831-EF40-4493-88A0-5E5A21188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D0FBDB-3BFB-46C2-8435-A7A7BB9B8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A95C80-3A92-4A51-B968-A8411416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1006EB-1223-4097-97E2-156B0BE42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E47D27-DD10-402B-8A89-3B916820C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307779-48B9-4AE6-96F7-3553D0A4C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8FE22A-29B0-4B81-972E-AE534A31D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4053B7-27A1-4C35-8EA8-20A10A4EA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571E-0802-41F2-9D3A-F1355AC2E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6452-56AF-421E-8139-929F508C9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E3976-A8F2-4FC0-AAB7-295A6879B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37666-CF6C-4235-85EC-784306429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63E7F-196B-4C60-A3CF-569F1016D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EB0CB-08AF-43D7-99CE-7B22D41DA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2F2EA-CBC7-4C89-9F82-83155602B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C992A-8679-40E9-B165-23A5A1818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18706-9A4E-4064-8308-AC27534C3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F8F2-113C-4464-95BA-7D1314E3A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338E4-A41E-480D-83A7-20086F3E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4637E-28FB-4A7E-AFD6-0AFDBF97E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9460B-DDCA-4D3E-904B-B100FA1B3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95F3F-7047-47F0-938E-1FE817CD7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9FBD3-F242-4914-9D81-EDF07BA35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3AD2C-F242-4779-AED3-E392A59DA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820D9-94A2-4D9B-A47E-E9C2DB9A5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F3B86-05E9-432F-A052-050C69613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9F552-12BC-49DA-83A0-F666B1941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B97AA-356E-46D1-914A-47E51F486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9C6F-E5E5-45EA-BB0B-011AB8986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0D6BD-2AB5-4F38-AED0-C9B7395EF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2CE3E-6156-45AD-AF40-EFA232CFE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1048B-3339-485E-93CF-BC57C424A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A472E-466C-4549-A368-907FCD78A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F74E7-07F4-4A1C-9F3F-5F815A8BC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3D49A-2EB9-42E5-BA40-AB7E81F50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8D63F-828D-486E-B268-14A2EE218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B574E-C70E-45D4-8E2A-7207DE25C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376ED-3F76-4160-893E-0A30C4D06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8820E-5880-4F75-88C0-23356AFEE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3AD4-8ED6-4BA9-BEE8-98A109F3A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C8EA0-4387-4221-B040-394F5B2EB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D3230-9E01-46B3-AFF1-04861F240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696AE-9E68-4A3A-A338-3CDDCFAB2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99538-108C-48E3-A507-B3C7A1CE0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139AB-A214-4986-82D4-3F771F67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95C98-522A-411F-97F9-8CB71F5B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1934A-098E-4249-8289-B61C32ED9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13184-38BB-4932-988E-3D305B3B6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EA05A-246B-4A9A-B0F2-A79904D90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36C0B-C120-492E-933D-EAE2DCE36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229C-0B2F-47B7-B344-BC1A05312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A41A38-6171-4308-8B82-2C07CC18B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8EF48-2FD6-42B3-853D-6BECB9116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CC2FAA-2374-4CA4-8FFF-12F7CC1AD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404FA7-3D29-4374-A131-EDF4B2E82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5463A5-D4EF-41BD-9BFF-6B53D1941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743C7-715A-4A3A-9252-F53017716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7A40B2-68AA-4D9E-8A68-5B7C62AD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102F5A-7C27-4036-A90E-B44F546E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8B75CD-7C93-44E0-8AE2-AC9839D6F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AB483A-29C6-42C6-BD08-42DFE2330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86A8-98EA-47D9-8107-BF9BF2AAD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186F08-5291-449E-BFE0-05B3D973A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67D7A2-0ECD-4D2E-AC04-4707F795A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46E92-62A4-4E73-AA6C-88F1274BD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E4FFE9-B39E-4B9C-BD5F-7752C2A18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4E38A9-2166-4888-B279-A0ADC0B94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19CFE-6FB7-4490-80F5-9117AF73F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70AC81-ED00-4ABB-8563-70D565C3C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0E25D6-970C-41F3-BACB-1703920DC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A00CC3-4352-4E70-84BB-1A422A416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3BC279-FB5B-429D-B8A8-BF1BFA79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9B57-B7E2-475F-BF1D-CD260912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473BB-6D4E-4799-9693-B186F77EC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E1C85A-3212-49E1-B537-ECF410E2B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C22CA-DECF-4989-A929-1E112A2A8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AA9D5B-A4A2-4DDA-A0D5-D5D54D330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991841-E19D-45D7-8D13-379022C63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003157-C3FA-4770-9122-8DC4F8E0E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C7340-5688-4322-8384-5C8CBA254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05B4DE-71A8-42A3-A749-FC0D27EB0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13E56E-6057-44A9-AD56-093DA648A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B417BB-3310-41A4-A92F-538F36ACB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83FF-7696-4D2A-8051-1902EF1F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B07B15-DF27-4DE0-A382-987259D2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5F2343-3784-46D5-8D86-5CB5926FE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551F11-8440-4D50-BE1F-B825B6178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590014-7953-4576-81E3-90CADFFCC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D7EB74-52D8-47A8-8CE1-642F1F078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AA53C0-B02E-4F8C-B5C9-7370B49D0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888665-51FB-4AAC-9FB1-38F179095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DAA3CA-F207-4469-B7B4-486C9E171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BDC08A-4DF4-4871-9B62-D8D90A236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154D25-04D1-4AEA-964B-B9EB8BEE2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CB88-CC63-448E-B87F-957B660F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FED927-8C84-4D1A-8B6D-1CBAB7A2B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CBA0D7-7E1B-4EFE-AFE7-BADBC710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D69FD0-11A6-4CC5-A24E-A81E9590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DBAA88-6776-4DAB-A8A6-D3CDF9E90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E538D6-2794-4F8E-BFD2-16DEBCBAD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20835F-5A4A-432C-8AC6-1D5FD7681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EAF5B1-D41D-4598-A1E0-76B793FC5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CACE84-0B5E-4068-87B9-EA87371C9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0CD81E-B6E7-4661-A083-592059C0B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BC6F2E-8E1D-4893-94E1-4075768A4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994A5-0356-4246-8413-D96324E2AF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19D57-B951-490B-B1B0-47DC822B3708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2666520"/>
            <a:ext cx="77724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64FDB-D8DD-400F-9DE5-11CD0BE11158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F5A45-786B-43F8-BDF0-E2E2FFC22938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797C6-70E9-4006-B75C-9B7C244218A4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2666520"/>
            <a:ext cx="77724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4BD63-ED55-47DD-8DB0-F24529FE5C99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54C1A-BBB6-4DFF-B939-673CFEA210AA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3C574-83A6-4853-A0A4-B7FCF35ECA35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2666520"/>
            <a:ext cx="77724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F085E-D324-409E-ABA3-3DA4F17BF556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Biodiversity and Extinction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29528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hing is For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What Caused the American Mass Extinction?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idn’t All Megafauna go Extin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son, Pronghorn, Deer, Grizzly B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Humans Really Hunt Megafaun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al Asian Mammoth-bone Huts, but Rabbits Are Main Bones in Food Du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killed off Saber-Tooth Ca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Humans Kill Off Some Keystone Spec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ing is Sure Suspic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Eating Our Way to Extinction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ller’s Sea C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d-Water Relative of Manat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inct 176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 A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ightless, Penguin-like North Atlantic Bi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riginal “Pengui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ce Example of Convergent Ev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inct 18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358164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The Passenger Pigeon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0" y="3429000"/>
            <a:ext cx="40384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High-Tech Exti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7" descr="http://web1.si.edu/siphotos/science-nature/PIGEON.gif"/>
          <p:cNvPicPr/>
          <p:nvPr/>
        </p:nvPicPr>
        <p:blipFill>
          <a:blip r:embed="rId1"/>
          <a:srcRect l="33544" t="2205" r="18077" b="9701"/>
          <a:stretch/>
        </p:blipFill>
        <p:spPr>
          <a:xfrm>
            <a:off x="4114800" y="304920"/>
            <a:ext cx="45720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The Passenger Pigeon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once have been the most numerous bird on the pla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d 5 bill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e up 30-40% of all North American bi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cks 1 mile wide, 300 miles 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ved to travel and bre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n mas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ction against most pred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2" descr="D:\Cartoons\Demotivators\Disloyalty.jpg"/>
          <p:cNvPicPr/>
          <p:nvPr/>
        </p:nvPicPr>
        <p:blipFill>
          <a:blip r:embed="rId1"/>
          <a:stretch/>
        </p:blipFill>
        <p:spPr>
          <a:xfrm>
            <a:off x="457200" y="-34920"/>
            <a:ext cx="8229600" cy="689292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Disloyalty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Arial"/>
              </a:rPr>
              <a:t>Humans and the Passenger Pigeon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609480" y="1333440"/>
            <a:ext cx="7772400" cy="49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like other predators, humans exploited the mass flocks of the passenger pige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ting, mass shoo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lroads shipped pigeons to market, created de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lines noted by 18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es could probably have survived even this predation, except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Arial"/>
              </a:rPr>
              <a:t>Extinction of the Passenger Pigeon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533160" y="1752480"/>
            <a:ext cx="7924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igeons were hunted in nesting si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unters used telegraph to learn of colon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ervation laws too little, too l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st wild pigeons shot Wisconsin, 1899 and Ohio, 19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Arial"/>
              </a:rPr>
              <a:t>Extinction of the Passenger Pigeon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533160" y="1447920"/>
            <a:ext cx="79246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attered birds could not bre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ptive breeding attempts fail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st bird died in Cincinnati Zoo, September 14, 1914, 1 P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nly extinction we can time to the minu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The Heath Hen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Your Best Just Isn’t Good Enoug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The Heath Hen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tern race of the prairie chic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ranged from Maine to Virgi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nting caused visible decline by 1800, steep by 18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1870, restricted to Martha’s Vineyard, Massachuset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1906, only 50 le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07, Sanctuary establis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Natural Extinctions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0948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prisingly enough, we know very little about natural exti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past, known only from fossil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 evidence of cause rarely preser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 and Effect hard to establ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ost hoc ergo propter ho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if cause established, what’s the mechanis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The Heath Hen – Back From the Brink?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907: Sanctuary established for last 50 bir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y 1915, number had grown to 2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cies had been rescu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The Heath Hen – Over the Brink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68580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07-1915: Heath hen had grown from 50 to 2000 bi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16: Fire destroyed most of refu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sh winter and influx of hawks further damaged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ck attacked by disease from domestic turk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1927, only 13 left, mostly m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bird died, 19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440" y="1294920"/>
            <a:ext cx="335268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arolina Parakee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533520" y="3429000"/>
            <a:ext cx="3657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 Adaptable for its Own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5" descr="The Carolina Parakeet close-up"/>
          <p:cNvPicPr/>
          <p:nvPr/>
        </p:nvPicPr>
        <p:blipFill>
          <a:blip r:embed="rId1"/>
          <a:stretch/>
        </p:blipFill>
        <p:spPr>
          <a:xfrm>
            <a:off x="4678200" y="304920"/>
            <a:ext cx="41148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arolina Parakee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Parrot Native to U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ranged from Virginia to Tex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apted readily to agriculture and became regarded as a p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dely hu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re by 1880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een in Florida about 19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Recovering From Near Disaster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etahs once ranged worldw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ining 20,000 are genetically ident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ar extinction 10,000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ons of close inbree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re able to re-occupy large range because nothing had filled ecological ni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Arial"/>
              </a:rPr>
              <a:t>When You Can’t Go Home Again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n Chestnut was once a major food crop and lumber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unted for half the value of eastern ti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astated by blight 1904-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olated trees and viable roots still surv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arch on blight immu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 if blight cured, other trees have filled ecological ni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Biodiversity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60948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les of organ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tic -- diversity of genetic information found within species and pop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es -- diversity of spe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ty -- diversity of community com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 -- diversity of assemblages of communities (Fox River watersh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dscape -- diversity of assemblages of ecosystems (Western Great Lak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Island Biodiversity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 islands (mountain tops) always have fewer species than areas on the “mainland” of similar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islands are isolated, it will be harder for species to immigrate to them, lowering the rate of immigr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of limited resources on islands, carrying capacity will be lower, decreasing population sizes and increasing extinction rat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Island Biodiversity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ory of island biogeography has been termed the 'First Law of Conservation Biology.'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of human actions, natural habitats are becoming increasingly isolated and island-like.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identifying potential mechanisms underlying the loss of species diversity, Island Biogeography Theory may help suggest ways in which we can design nature reserves to maximize their ability to maintain divers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Habitat Fragmentation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60948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diversity ofte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creas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en habitats are fragme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species need large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ically large r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ility of foo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ion from predators and invaders  (Example: cowbirds and songbird decl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idors as solu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Natural Extinctions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2057400" y="1447920"/>
            <a:ext cx="4648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bitat Disru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canic Eru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teroid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bitat Mod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untain-Bui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 Level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otic”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ental Dri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Exotic Species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68580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unteers – natural chance immigrants (cattle egre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ntentional (rats, English sparrow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caped ornamentals (kudzu, purple loosestrif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caped pets (feral cats, house finch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caped domestic animals (pigs, goa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o-control gone haywire (mongoos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exotics not street sm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gorous exotics have no natural pred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: 80% overrun by exotic spe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Island Biodiversity and Reserves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68580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arge reserve is better than a small reser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ingle undivided reserve is better than a number of small reser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ew large reserves are better than a number of small reser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rves should be spaced equally from another, not linear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reserves should be connected with corrid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reserve is small and isolated, it should be circular and not lin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The Sixth Extinction?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xth Extin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by Richard Leakey and Roger Lewin 199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e we creating a mass extinction to rival the other major events in the geologic pa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Mass Extinctions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436" name="Picture 3" descr="D:\working copy\GRAPHIC0\GenGeology\MassExtinct.gif"/>
          <p:cNvPicPr/>
          <p:nvPr/>
        </p:nvPicPr>
        <p:blipFill>
          <a:blip r:embed="rId1"/>
          <a:stretch/>
        </p:blipFill>
        <p:spPr>
          <a:xfrm>
            <a:off x="838080" y="1143000"/>
            <a:ext cx="7620120" cy="53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Mass Extinctions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igher the taxonomic level, the lower the extinction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wipe out a species, hard to wipe out a fam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0 m.y. ago: 90% of species lost, 50% of families, some orders, no phy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Why High-Order Taxa Survive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440" name="Picture 1028" descr=""/>
          <p:cNvPicPr/>
          <p:nvPr/>
        </p:nvPicPr>
        <p:blipFill>
          <a:blip r:embed="rId1"/>
          <a:stretch/>
        </p:blipFill>
        <p:spPr>
          <a:xfrm>
            <a:off x="933480" y="1523880"/>
            <a:ext cx="712476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Lazarus Taxa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s that vanish during mass extinctions and then reapp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do they g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on’t they chan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Extinct Species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571320" y="1599840"/>
            <a:ext cx="78483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2100 dinosaur fossils in museu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85 genera, 336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have been 1000-1300 genera to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 to 1300 living mammal gen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30,000 marine invertebrate genera (more genera living no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Diversity and the Fossil Record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609480" y="1180800"/>
            <a:ext cx="77724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organisms will never be fossi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hard p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re or very restri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vironments where fossilization unlik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ten impossible to distinguish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rely on skeletons, shells, hard p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information on col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information on internal 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Fossilization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sediment is transported by running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fossils are in water-laid r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as toward aquatic 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vorable se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restrial fossils preserved errat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Arial"/>
              </a:rPr>
              <a:t>Things that Probably Don’t Cause Natural Extinctions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09480" y="20570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ide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pid co-evolution of disease and h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ution of New Competitors in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ing organisms already well-ada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What We Wouldn’t Find in the Fossil Record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609480" y="20570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sky seaside sparrow (color variant on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vory-Billed Woodpecker, California Condor, Steller’s Sea Cow (never abunda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rain forest species (too restricted, not likely to be fossiliz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What We Would Find in the Fossil Record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60948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inction of Pleistocene megafau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inction of Passenger Pige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tion in range of bison, large carniv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ansion of human domestic 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tion in rain forest, changes in land co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ans and artif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The Sixth Extinction – So Far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60948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iggest change so far (Pleistocene extinction) was prehisto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been very significant shifts in vegetation and fau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many extinctions would show up in the fossil rec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change in easily fossilized marine fau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Human-Caused Extinction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8580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ssive Predation (Food, fur, collecting, pest eradication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bitat De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truction of keystone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 of Exotic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i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lution and Conta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There Goes the Neighborhood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ans Show Up and Megafaunas Go Extin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stralia 40,000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s 15,000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agascar 1000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Zealand 1000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Did Humans Cause the American Mass Extinction?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609480" y="22860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ious: Threatens Image of Early Humans As Stewards of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igrants From Arctic Wouldn’t Have Fine-tuned Cultural Sense of How to Manage Temperate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n Fauna Not Accustomed to Hum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What Caused the American Mass Extinction?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85800" y="24379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mate Chan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de out 20+ Previous Glacial Cy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in Ecolog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</a:t>
            </a:r>
            <a:r>
              <a:rPr b="0" lang="en-US" sz="4400" spc="-1" strike="noStrike" baseline="-25000">
                <a:solidFill>
                  <a:srgbClr val="1c1c1c"/>
                </a:solidFill>
                <a:latin typeface="Arial"/>
              </a:rPr>
              <a:t>3</a:t>
            </a: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 and C</a:t>
            </a:r>
            <a:r>
              <a:rPr b="0" lang="en-US" sz="4400" spc="-1" strike="noStrike" baseline="-25000">
                <a:solidFill>
                  <a:srgbClr val="1c1c1c"/>
                </a:solidFill>
                <a:latin typeface="Arial"/>
              </a:rPr>
              <a:t>4 </a:t>
            </a: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Grasses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s to chemical reactions during photosynthesis (3- versus 4-carbon molecul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asses are cool climate, 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ses are warm cli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ses are richer in silica particles and wear teeth f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8T20:48:15Z</dcterms:created>
  <dc:creator>Steven Dutch</dc:creator>
  <dc:description/>
  <dc:language>en-US</dc:language>
  <cp:lastModifiedBy>Lyn Clarkson</cp:lastModifiedBy>
  <dcterms:modified xsi:type="dcterms:W3CDTF">2009-08-26T03:54:07Z</dcterms:modified>
  <cp:revision>14</cp:revision>
  <dc:subject/>
  <dc:title>PowerPoint Presentation</dc:title>
</cp:coreProperties>
</file>